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0561-B17B-4E50-AFE9-6E336398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B1FD-3F20-4B6D-845F-4E0CC979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2A0-394A-434B-9F3F-1E2E6E3D3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0197-32D3-49FB-9BB8-D0E77E1A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7F5-653D-43E6-BE24-AC263FCB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B92A-A0D2-4C2B-8B70-E6CBC91B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FF0-FBAD-4D01-B604-1D17BEB3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A98-80CB-46D2-8981-3D512354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5F6-1980-4C1A-8829-AEC1A16B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A5D-8A17-4B42-9B15-A33FE866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EFC2-432E-4785-9CE9-4473FE8D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0B9-7DFD-4860-A702-6F888A45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EC45-C8A5-41E2-ACE5-A4CF9E46C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647960" cy="53341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4120" y="1447920"/>
            <a:ext cx="31240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Cross Section - central cy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p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big primary root with much smaller secondary ro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dandelions, carrots, bee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ips, radishes, parsnip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oak, hickory, coni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penetrate deeply into the soil = good for drought conditions &amp; food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p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810240" cy="4647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19720" y="14479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rous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ro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vely branching roots; holds soil particles together (prevent ero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all grasses, many weeds &amp; tre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rous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419360" cy="4953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9625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itious (Prop)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 that grow out from the 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mechanical support; help support a tree at its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o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mon in tropical &amp; subtropic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ntitious (Prop)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962520" cy="5105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95680" y="1371600"/>
            <a:ext cx="403884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ial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s that grow above ground &amp; absorb moisture from the ai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eant to provide support for clim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epiphytes - orchids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English Ivy, Poison Ivy 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ther vines &amp; cree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erial R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038840" cy="5257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95680" y="1295280"/>
            <a:ext cx="44197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2:26:17Z</dcterms:created>
  <dc:creator>Clayton Johns</dc:creator>
  <dc:description/>
  <dc:language>en-US</dc:language>
  <cp:lastModifiedBy>Clayton Johns</cp:lastModifiedBy>
  <dcterms:modified xsi:type="dcterms:W3CDTF">2010-05-06T12:45:36Z</dcterms:modified>
  <cp:revision>4</cp:revision>
  <dc:subject/>
  <dc:title>Root Types</dc:title>
</cp:coreProperties>
</file>